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99E-867A-4B9B-994B-A04A3713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2E4-83AB-49C0-8C37-F0AA3ECD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2B4-1716-4B46-B5E0-669E23CC3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32CB-55A2-4D99-BAE8-938A11FD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F1CE-06BA-4911-856B-EE5360FE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DA3-DE52-495E-A967-CFFA0A3D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FCA-5E22-4A6F-94FB-F433E568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510-F05F-4440-8CAC-80C515C9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08C-CB69-44B8-9C02-51C0C4C7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2E2-64B9-4ED7-AA08-D330E42C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6598-B3B8-4B88-8DFB-BCCFC09BA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74E-705E-40C8-B451-4E7F2015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3CE-8D38-4492-A7BC-D5B6B4C4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86B3-EDEA-4364-B368-778A660C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BA0-BC8A-451A-8110-5F73AAEB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C2B-3333-4D40-BAFA-D408989B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458-EA1C-44E4-B387-ADDC217B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7DE-A9D6-4D25-9BA0-6629E168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5C8-2E5B-4C10-8504-9DA24ED9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FE69-E9D1-4C9A-863F-062BF70CE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D70E-F920-4087-B48A-88C134DA55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41CB-E0AE-4D5B-A61A-1C403D578A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5D25-5BEA-489D-8334-5C4DA98007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D70D-3D0C-4269-95F6-8B0BA39B69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4F42-AA2A-45CC-853A-1CBAE902FD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9664-DAE0-40F6-9D53-1ABFE5A979C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8D93-9940-4340-9AA5-83A20E36EE4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9801-6556-4F46-B554-50FBC5D2309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0348-A2F4-4FC9-AAB4-B93B485AECA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BCBF-C744-4BD5-ACF7-2F253FAAF03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617F-754B-490B-B387-00EF8D820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EC14-A154-4A2F-99B3-E4CE6CAD7C9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4874-3310-4CAE-910E-63ABB4DC81D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C50C-C774-4400-8111-08C103076B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0574-5167-4408-BD21-383FBD1C37E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6633-C860-40C2-B40B-F587D82134F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7F5-FFCF-4528-A14E-25E9E91EC87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690-ECAA-444C-8B22-E4DDD360DB3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842-CC22-4441-B31F-DD13AA679D7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BBA-0ADC-44F8-9B8F-1226FD78990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D3C-B7F3-471E-92A1-C64BAEE59A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C645-F4DD-44DA-9337-87AE02C21E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6B3-9861-4F1C-8533-8D740167EF6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A20-DBA6-41D2-98C7-45D0A2DD4E2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07C-1B61-46D8-A192-EE6A1D68165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CA1-9182-4955-978B-98562B07C36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B73-C129-4569-B5EA-12C0697E8DF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710-8392-4F62-A194-C3E5E7C2923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7A3-DFD6-459D-87A6-0FC92DBDA48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C71-8F9F-4F28-A7DC-CE064500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BE23-C42B-41C0-B1CE-2F1FDC4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810-0CEE-41EE-B551-218C5AD8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6E65-FD8C-48B4-BD78-25A5050AE0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918D-4F00-47EB-A290-610E654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921-3243-4D03-9793-59C17CD3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0454-EAAC-41B7-B4DA-A3F95A77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9D9F-82D3-4C38-9AEA-0E46209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C33A-1082-4319-A53C-7779E78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E8C-B5BF-4090-A19F-63CB543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BC6-3B87-4C0F-BCF3-81A5886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65B-B38E-4ED3-AE30-363C1701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5EEE-BB16-4107-9F65-DAF08E9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4A2A-E6C4-4A39-91D3-4D9D9DE6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6FEF-502D-4963-BD20-EE5813F359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E81C-BB38-4375-BDAC-114A237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D456-9734-4B6B-BAE2-FB78943F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C346-6AEE-41C6-A2B4-4F6A5A32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F268-6BA8-494A-9259-315EABB2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2F70-75D8-4815-B18E-8253D31A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EA67-7E09-49BB-A498-E83F20D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34BC-56B5-49F4-8A3E-009BBC60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BE48-9F22-42F1-B76E-C7218255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D53E-3B20-43AE-B1C0-FCBBFAD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05DF-3D46-4B4B-BD16-39386690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B3E7-F953-4BB3-ACF2-AABBD5B27D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F2B5-51B8-4A62-A5D0-86FD59A2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0121-73C2-41EA-ACF9-ED3C39AA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55B7-D908-4F61-BD16-3C5ABB2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75E2-9097-4344-9F35-3CE25829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2793-D114-4FC1-82E8-04C67CB2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C849-75A7-4970-BA78-5457A03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C3E2-D0BC-402D-9506-919CD6E5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B736-9CF0-4A35-8A34-EB824FC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5288-D9D5-4E32-8AD8-3D5E98A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C5DE-CBF7-42B5-A30E-8D11F3D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1774-0003-41A9-9F8C-2803C37DD3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9AEC-BB7C-49ED-8463-C8692A7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9B31-B577-4501-B7A0-8B7DC1DD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3299-4D3D-4225-A717-5197DD4D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79C7-CDA9-4BAB-8EBD-32DA731C95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F5CA-230A-417A-8367-EC8B833F40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837-1DC7-4631-BDF9-61DE3626CC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453-6496-4334-8846-A645EAAE72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6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0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3AD-BF5B-4EBB-9E9C-D1E89E5F33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8A0-AD32-4D8D-974D-A3DC81A034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320-A227-4925-9D82-4C938DDDB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43C6-0CB7-4F1F-BE53-5A182D0E05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3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59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tional classification for calculating and reporting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igned to each product or service item, as well as to each custom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les Tax Codes serve two purpo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cate whether a specific product or service is taxable or non-tax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tegorize revenue based on the reason you charged or didn’t charge sales tax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4" descr="C:\Users\DPEMBR~1\AppData\Local\Temp\SNAGHTML187e289.PNG"/>
          <p:cNvPicPr/>
          <p:nvPr/>
        </p:nvPicPr>
        <p:blipFill>
          <a:blip r:embed="rId2"/>
          <a:stretch/>
        </p:blipFill>
        <p:spPr>
          <a:xfrm>
            <a:off x="1622520" y="1600200"/>
            <a:ext cx="5898960" cy="4572000"/>
          </a:xfrm>
          <a:prstGeom prst="rect">
            <a:avLst/>
          </a:prstGeom>
          <a:ln w="0">
            <a:noFill/>
          </a:ln>
        </p:spPr>
      </p:pic>
      <p:sp>
        <p:nvSpPr>
          <p:cNvPr id="1361" name="Oval 19"/>
          <p:cNvSpPr/>
          <p:nvPr/>
        </p:nvSpPr>
        <p:spPr>
          <a:xfrm>
            <a:off x="3733920" y="5334120"/>
            <a:ext cx="19047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 txBox="1"/>
          <p:nvPr/>
        </p:nvSpPr>
        <p:spPr>
          <a:xfrm>
            <a:off x="456840" y="16765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set up a Sales Tax Co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st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menu select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from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menu at the bottom of the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ter three characte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descrip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has a taxable or non-taxable stat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64" name="Picture 5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700440" cy="175248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5" descr="C:\Users\DPEMBR~1\AppData\Local\Temp\SNAGHTML15725457.PNG"/>
          <p:cNvPicPr/>
          <p:nvPr/>
        </p:nvPicPr>
        <p:blipFill>
          <a:blip r:embed="rId3"/>
          <a:stretch/>
        </p:blipFill>
        <p:spPr>
          <a:xfrm>
            <a:off x="5278320" y="3962520"/>
            <a:ext cx="364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 txBox="1"/>
          <p:nvPr/>
        </p:nvSpPr>
        <p:spPr>
          <a:xfrm>
            <a:off x="456840" y="16765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ales Tax Cod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Customer in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dditional Inform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aul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ax Co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sales f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68" name="Picture 5" descr=""/>
          <p:cNvPicPr/>
          <p:nvPr/>
        </p:nvPicPr>
        <p:blipFill>
          <a:blip r:embed="rId2"/>
          <a:stretch/>
        </p:blipFill>
        <p:spPr>
          <a:xfrm>
            <a:off x="3886200" y="2014560"/>
            <a:ext cx="4897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utomatically calculates and tracks sales tax on each sa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1" name="Picture 5" descr=""/>
          <p:cNvPicPr/>
          <p:nvPr/>
        </p:nvPicPr>
        <p:blipFill>
          <a:blip r:embed="rId2"/>
          <a:stretch/>
        </p:blipFill>
        <p:spPr>
          <a:xfrm>
            <a:off x="298440" y="2743200"/>
            <a:ext cx="8547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552160" cy="117000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 txBox="1"/>
          <p:nvPr/>
        </p:nvSpPr>
        <p:spPr>
          <a:xfrm>
            <a:off x="457200" y="16765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ws sales to each customer over a given date rang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or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nu,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 by Customer Summa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4" name="Picture 4" descr="C:\Users\DPEMBR~1\AppData\Local\Temp\SNAGHTML15884e8d.PNG"/>
          <p:cNvPicPr/>
          <p:nvPr/>
        </p:nvPicPr>
        <p:blipFill>
          <a:blip r:embed="rId2"/>
          <a:stretch/>
        </p:blipFill>
        <p:spPr>
          <a:xfrm>
            <a:off x="3962520" y="1828800"/>
            <a:ext cx="4868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76" name=""/>
          <p:cNvSpPr txBox="1"/>
          <p:nvPr/>
        </p:nvSpPr>
        <p:spPr>
          <a:xfrm>
            <a:off x="456840" y="1676160"/>
            <a:ext cx="335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ws sales of each Item over a given date r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lect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orts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u,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nd then select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ales by Item Summar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7" name="Picture 4" descr="C:\Users\DPEMBR~1\AppData\Local\Temp\SNAGHTML1086933.PNG"/>
          <p:cNvPicPr/>
          <p:nvPr/>
        </p:nvPicPr>
        <p:blipFill>
          <a:blip r:embed="rId2"/>
          <a:stretch/>
        </p:blipFill>
        <p:spPr>
          <a:xfrm>
            <a:off x="3733920" y="2039760"/>
            <a:ext cx="5105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customer return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off customer invoices (record bad deb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customer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ales re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customer returns and cred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off customer invoices (record bad deb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customer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 sales ta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ales re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Credit Memos in following situa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cel an order that has been invoic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urned merchand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dit-on-account for a custo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funding a custom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s menu &gt; Create Credit Memos/Ref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und to a customer when a custom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urns merchandise after pay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quests a discount or refund on paid merchandise or servic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pays their Invoice and requests a ref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customer paid with cash or check, issue a refund che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customer paid with a credit card, credit the customer’s credit ca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304560" y="17524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Credit memo, click Use Credit To and choose Give Ref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sue a Refund wind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filled i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es refund check in the checking account and records the Credit Mem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0" name="Picture 5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241720" cy="170208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5" descr="C:\Users\DPEMBR~1\AppData\Local\Temp\SNAGHTMLf12762.PNG"/>
          <p:cNvPicPr/>
          <p:nvPr/>
        </p:nvPicPr>
        <p:blipFill>
          <a:blip r:embed="rId3"/>
          <a:stretch/>
        </p:blipFill>
        <p:spPr>
          <a:xfrm>
            <a:off x="4726080" y="3581280"/>
            <a:ext cx="3855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 off uncollectible invoices with a credit mem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d Debt It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d Debt is an Other Charge Item linked to Bad Debts expen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4" name="Picture 4" descr="C:\Users\DPEMBR~1\AppData\Local\Temp\SNAGHTML14eb6007.PNG"/>
          <p:cNvPicPr/>
          <p:nvPr/>
        </p:nvPicPr>
        <p:blipFill>
          <a:blip r:embed="rId2"/>
          <a:stretch/>
        </p:blipFill>
        <p:spPr>
          <a:xfrm>
            <a:off x="3505320" y="1828800"/>
            <a:ext cx="53625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 txBox="1"/>
          <p:nvPr/>
        </p:nvSpPr>
        <p:spPr>
          <a:xfrm>
            <a:off x="4572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er statements provide a summary of the activity for an accounts receivable customer during the period you specif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47" name="Picture 4" descr="C:\Users\DPEMBR~1\AppData\Local\Temp\SNAGHTMLff5ef6.PNG"/>
          <p:cNvPicPr/>
          <p:nvPr/>
        </p:nvPicPr>
        <p:blipFill>
          <a:blip r:embed="rId2"/>
          <a:stretch/>
        </p:blipFill>
        <p:spPr>
          <a:xfrm>
            <a:off x="4032360" y="1752480"/>
            <a:ext cx="479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4" descr="C:\Users\DPEMBR~1\AppData\Local\Temp\SNAGHTML1527979c.PNG"/>
          <p:cNvPicPr/>
          <p:nvPr/>
        </p:nvPicPr>
        <p:blipFill>
          <a:blip r:embed="rId2"/>
          <a:stretch/>
        </p:blipFill>
        <p:spPr>
          <a:xfrm>
            <a:off x="1247760" y="1725480"/>
            <a:ext cx="3324240" cy="33894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5" descr="C:\Users\DPEMBR~1\AppData\Local\Temp\SNAGHTML1529505f.PNG"/>
          <p:cNvPicPr/>
          <p:nvPr/>
        </p:nvPicPr>
        <p:blipFill>
          <a:blip r:embed="rId3"/>
          <a:stretch/>
        </p:blipFill>
        <p:spPr>
          <a:xfrm>
            <a:off x="3352680" y="2743200"/>
            <a:ext cx="5121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Picture 5" descr="C:\Users\DPEMBR~1\AppData\Local\Temp\SNAGHTML152e0e60.PNG"/>
          <p:cNvPicPr/>
          <p:nvPr/>
        </p:nvPicPr>
        <p:blipFill>
          <a:blip r:embed="rId1"/>
          <a:stretch/>
        </p:blipFill>
        <p:spPr>
          <a:xfrm>
            <a:off x="3562200" y="1494000"/>
            <a:ext cx="5310360" cy="4144680"/>
          </a:xfrm>
          <a:prstGeom prst="rect">
            <a:avLst/>
          </a:prstGeom>
          <a:ln w="0">
            <a:noFill/>
          </a:ln>
        </p:spPr>
      </p:pic>
      <p:pic>
        <p:nvPicPr>
          <p:cNvPr id="1352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 txBox="1"/>
          <p:nvPr/>
        </p:nvSpPr>
        <p:spPr>
          <a:xfrm>
            <a:off x="456840" y="167652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les Tax Item calculates the tax for the sa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Oval 13"/>
          <p:cNvSpPr/>
          <p:nvPr/>
        </p:nvSpPr>
        <p:spPr>
          <a:xfrm>
            <a:off x="5410080" y="3962520"/>
            <a:ext cx="228600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4:50:53Z</dcterms:modified>
  <cp:revision>202</cp:revision>
  <dc:subject/>
  <dc:title>Chapter 2 Managing Revenue</dc:title>
</cp:coreProperties>
</file>